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4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AA8-2411-4327-BD76-21AAA728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C9A-8463-43DF-A098-02E854F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375-0D6F-4A13-BDE9-A653FA36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1D6-91BC-40A7-9EA3-795A1C2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CEB0-6058-4B8A-BF64-C47D6EDF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14C-6488-4AFD-93F4-F8FD777E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841F-3B6B-48D9-BF87-3919BE3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2B16-F21B-411E-B7E1-B47B1D2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DD19-C5C5-4388-883A-0B1673C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486F-8A8A-49D5-AD0B-6CBF4C4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BDC-FA5F-4707-935E-F24D43E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01D-DB38-4075-9FE3-E100AD8D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133-444B-47A2-B3EE-F0C770A6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BCEB-E5A1-45A8-A9BC-AAEB08B1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3785-94FC-42E7-B3ED-2AB0AB1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C469-4786-4C9E-84B3-0EB5D554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DFD7-17BB-4D20-92D5-71286653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6ADAF-F405-42D2-9EEA-98EA7FD3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F348-1053-471E-8DB3-017EF27F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AC62-CCFB-415E-8D49-618D469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43BC-D1A8-4747-8CCA-715078D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4183-A067-4BEB-88CE-B71D321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784-7037-4204-B115-9A797D1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8EB0-4423-4613-8370-FE6EFCA5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CDF3-2918-4BFE-86E1-8777697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1F9E3-4869-4240-95E8-E9C04742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EBDA-1534-4220-B954-865C4D2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25761-5B04-44DE-89BD-0B05167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0F9E-E736-4E1F-BA61-61885C64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9877-7A98-4A02-AD06-BCD8DBE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B2F1-859D-4A3D-AE77-A4DADD42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1D1A-854E-49A4-8951-E12271D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04E5-74A0-487F-8637-03AE4357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209-7DC1-4462-BE5D-45B70D8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8CD0-CC50-4E0A-9373-880DE68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D1583-F954-4CE2-B4B3-48AABD65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ED60-7D98-415B-ACC9-59685682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A27C-208E-407D-B6BA-71175C53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87736-0BB4-4B40-92AC-22B8C6D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56CB-994B-4FAE-98CC-FC861B9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1424-4615-461F-AF80-F85CB813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0082-064C-45AF-B5B3-673FE32E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60F4-874C-45D3-95FB-19D6B610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BBE86-40DD-4C90-878A-11DDC3B7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58D-47DC-4D27-AD77-7DF51FC5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42F22-79EE-4796-B566-4D10C1BC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D9D7F-7823-40BD-B9C6-A7FA85FC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6834-5FD9-4A9B-8096-457CF238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AE37-CF2B-477D-B3A2-B206DC95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D52F-CF1B-4A93-8A2E-6014CE2C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6665A-BF45-4832-8724-314473D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11B89-44ED-46B8-B717-A6FA9216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54F8-8BF0-4CC5-AF89-36876682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E300-D6B2-45CD-B0A2-BF6E6AC3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E811-D080-4EB4-8B77-00300B1C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CBB-EAF0-4CBB-B262-4BBB3A1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7F10-28B3-4646-B7D8-DB011F5A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D16-AA7F-4CBE-AE4A-6B38208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EB9-BFA3-4132-8388-9C5AB66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83E-3ED5-4AE0-9AA1-6B48A0A7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5B2-EE5C-48AB-9A83-6890875131C4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D40-6002-40C9-9D19-A59A0719E376}" type="slidenum">
              <a:rPr b="0" lang="es-C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4B7-0FE8-44CB-984D-F706AF3D75DF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E6B4-7011-477B-9CD9-9D227395A966}" type="slidenum">
              <a:rPr b="0" lang="es-C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6FF6-67B8-4E0B-A8A3-DA32E730160C}" type="slidenum">
              <a:rPr b="0" lang="es-C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cohesion.rice.edu/centersandinst/icon/emplibrary/twitter_logo.jpg&amp;imgrefurl=http://www.armscontrol.org/reports&amp;usg=__40h9AQSQwhc2ugC6qcIrVp8-h2E=&amp;h=295&amp;w=800&amp;sz=33&amp;hl=es&amp;start=1&amp;sig2=NQ4qg8aXPa1dGYNNvVPF0g&amp;um=1&amp;itbs=1&amp;tbnid=HlgeaHb1DzF49M:&amp;tbnh=53&amp;tbnw=143&amp;prev=/images%3Fq%3Dtwitter%26um%3D1%26hl%3Des%26lr%3D%26sa%3DN%26tbs%3Disch:1&amp;ei=ef6zS6WcPIT68AbKzMTrC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images.google.com/imgres?imgurl=http://www.doughroller.net/wp-content/uploads/2009/10/redbox.jpg&amp;imgrefurl=http://www.doughroller.net/reviews/redbox-review/&amp;usg=__OUsXv6rCLt9dRb4_mGEhkWqAMCc=&amp;h=432&amp;w=368&amp;sz=178&amp;hl=es&amp;start=2&amp;sig2=2AY6dZthuvDkvdEbwaM4VQ&amp;um=1&amp;itbs=1&amp;tbnid=VjiAl6rpTcswjM:&amp;tbnh=126&amp;tbnw=107&amp;prev=/images%3Fq%3Dredbox%26um%3D1%26hl%3Des%26lr%3D%26tbs%3Disch:1&amp;ei=tP6zS6WnA4L88Aag_azKAQ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thekrazycouponlady.com/wp-content/uploads/RedboxLogo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images.google.com/imgres?imgurl=http://www.icefire.ca/Partners/microsoft-logo.jpg&amp;imgrefurl=http://www.icefire.ca/Web/partners.aspx&amp;usg=__KSzun7ksc_rPQCTqjsE10dumsLk=&amp;h=686&amp;w=2846&amp;sz=80&amp;hl=es&amp;start=2&amp;sig2=0aYdztzVQWTkZxbbU06M5w&amp;um=1&amp;itbs=1&amp;tbnid=qXPGv2e2QgNLeM:&amp;tbnh=36&amp;tbnw=150&amp;prev=/images%3Fq%3Dmicrosoft%2Blogo%26um%3D1%26hl%3Des%26lr%3D%26tbs%3Disch:1&amp;ei=Pv-zS4TyM4H88Ab5ms3QCg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images.google.com/imgres?imgurl=http://www.sph.umd.edu/KNES/faculty/jkshim/neuromechanics/News/UMD_logo.JPG&amp;imgrefurl=http://www.sph.umd.edu/KNES/faculty/jkshim/neuromechanics/News/news.htm&amp;usg=__HYMDtawpSrjFRN6rnlw9G8PLog8=&amp;h=444&amp;w=453&amp;sz=70&amp;hl=es&amp;start=1&amp;sig2=SqbGjgEc498OInBdSq48mw&amp;um=1&amp;itbs=1&amp;tbnid=4NPxKe8cmr1lWM:&amp;tbnh=124&amp;tbnw=127&amp;prev=/images%3Fq%3Dumd%2Blogo%2Bmaryland%26um%3D1%26hl%3Des%26lr%3D%26tbs%3Disch:1&amp;ei=Zv-zS5GfJIGB8ga-qJjtCg" TargetMode="External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2700360" y="530280"/>
            <a:ext cx="6284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99920" y="4428720"/>
            <a:ext cx="5115240" cy="153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rgumentative Presenta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Paulina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April , 2010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ffff"/>
                </a:solidFill>
                <a:latin typeface="Trebuchet MS"/>
              </a:rPr>
              <a:t>Listening and Speaking Clas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ENTRE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mbarking on a new business in order to exploit new found opportuniti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APRENEU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Is the practice of entrepreneurship by employees within an organization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714240" y="4714920"/>
            <a:ext cx="692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entrepreneur takes risk 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in being the owner and operator of a business with expectations of financial profit. On the contrary, an </a:t>
            </a: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Trebuchet MS"/>
              </a:rPr>
              <a:t>intrapreneur is an individual employed by an organization for remuneration</a:t>
            </a: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. But both share the same conviction, zeal (enthusiasm) an insigh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Could you define the concept of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Introduction on something new and some improvement in 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duc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Services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6c6c6c"/>
                </a:solidFill>
                <a:latin typeface="Trebuchet MS"/>
              </a:rPr>
              <a:t>Proce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rebuchet MS"/>
              </a:rPr>
              <a:t>What is the difference between invention and innovation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rebuchet MS"/>
              </a:rPr>
              <a:t>Key words, Can you remember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7493040" cy="1159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57168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Do you think that you have been an innovative person in your life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rebuchet MS"/>
              </a:rPr>
              <a:t>Yes or No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DSCF1935.JPG"/>
          <p:cNvPicPr/>
          <p:nvPr/>
        </p:nvPicPr>
        <p:blipFill>
          <a:blip r:embed="rId2"/>
          <a:stretch/>
        </p:blipFill>
        <p:spPr>
          <a:xfrm>
            <a:off x="1714680" y="3000240"/>
            <a:ext cx="48574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4" descr="images.jpg"/>
          <p:cNvPicPr/>
          <p:nvPr/>
        </p:nvPicPr>
        <p:blipFill>
          <a:blip r:embed="rId2"/>
          <a:stretch/>
        </p:blipFill>
        <p:spPr>
          <a:xfrm>
            <a:off x="3581280" y="3443400"/>
            <a:ext cx="9907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http://members.fundacionbankinter.org/images/placeholders/informacion_becas.png"/>
          <p:cNvPicPr/>
          <p:nvPr/>
        </p:nvPicPr>
        <p:blipFill>
          <a:blip r:embed="rId3"/>
          <a:stretch/>
        </p:blipFill>
        <p:spPr>
          <a:xfrm>
            <a:off x="74520" y="1785960"/>
            <a:ext cx="7926480" cy="450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images.jpg"/>
          <p:cNvPicPr/>
          <p:nvPr/>
        </p:nvPicPr>
        <p:blipFill>
          <a:blip r:embed="rId4"/>
          <a:stretch/>
        </p:blipFill>
        <p:spPr>
          <a:xfrm>
            <a:off x="3500280" y="3714840"/>
            <a:ext cx="99396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blobservlet5bef.gif"/>
          <p:cNvPicPr/>
          <p:nvPr/>
        </p:nvPicPr>
        <p:blipFill>
          <a:blip r:embed="rId5"/>
          <a:stretch/>
        </p:blipFill>
        <p:spPr>
          <a:xfrm>
            <a:off x="2143080" y="4214880"/>
            <a:ext cx="150012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logo.gif"/>
          <p:cNvPicPr/>
          <p:nvPr/>
        </p:nvPicPr>
        <p:blipFill>
          <a:blip r:embed="rId6"/>
          <a:stretch/>
        </p:blipFill>
        <p:spPr>
          <a:xfrm>
            <a:off x="4857840" y="1857240"/>
            <a:ext cx="3128760" cy="5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images.jpg"/>
          <p:cNvPicPr/>
          <p:nvPr/>
        </p:nvPicPr>
        <p:blipFill>
          <a:blip r:embed="rId7"/>
          <a:stretch/>
        </p:blipFill>
        <p:spPr>
          <a:xfrm>
            <a:off x="428760" y="2000160"/>
            <a:ext cx="243036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2.gstatic.com/images?q=tbn:HlgeaHb1DzF49M:http://cohesion.rice.edu/centersandinst/icon/emplibrary/twitter_logo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285920" y="3071880"/>
            <a:ext cx="2143080" cy="847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t0.gstatic.com/images?q=tbn:VjiAl6rpTcswjM:http://www.doughroller.net/wp-content/uploads/2009/10/redbox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286680" y="2500200"/>
            <a:ext cx="1638000" cy="2071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Ver imagen en tamaño completo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00840" y="5572080"/>
            <a:ext cx="1643040" cy="993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http://t2.gstatic.com/images?q=tbn:qXPGv2e2QgNLeM:http://www.icefire.ca/Partners/microsoft-logo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2357280" y="5857920"/>
            <a:ext cx="1785960" cy="428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http://t1.gstatic.com/images?q=tbn:4NPxKe8cmr1lWM:http://www.sph.umd.edu/KNES/faculty/jkshim/neuromechanics/News/UMD_logo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4786200" y="5429160"/>
            <a:ext cx="120996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http://t3.gstatic.com/images?q=tbn:Y79rGTuHhPq22M:http://www.antociano.net/blog/wp-content/uploads/2007/08/prochile.jpg"/>
          <p:cNvPicPr/>
          <p:nvPr/>
        </p:nvPicPr>
        <p:blipFill>
          <a:blip r:embed="rId18"/>
          <a:stretch/>
        </p:blipFill>
        <p:spPr>
          <a:xfrm>
            <a:off x="428760" y="40719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 i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Main Entry: in•no•va•tio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Pronunciation: "i-n&amp;-'vA-sh&amp;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Function: nou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: the introduction of something ne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: a new idea, method or de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 is useful only to the inventor unless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 is offered to the publi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f the invention improves som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duct,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cess or service for the public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then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ven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transforms into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nov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big or small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and-new or just a bit different, it doesn't matter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innovation can be clearly complex or seemingly simple. Example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novations are often thought of in terms of technical achievement, but can also be a desig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he type, industry and style of innovation are irrelevant; an innovation's impact determines its qualific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s important to be clear as to what innovation is not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Innovation is NOT inven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even if invention is the mother of necessi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se two words are sometimes used interchangeably, but although connected they are not the sam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n innovation is the extension of an inven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future of many businesses depends upon their ability to innovat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should be a “innovative” perso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is fierce. Knowledge spreads quickly. The ability of a company to not only keep up with its current business practices, but to exceed its own – and its competition's – expectations are critical to survi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nnovation is the specific instrument of entrepreneurship... the act that endows resources with a new capacity to create wealth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Peter Drucker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novation has nothing to do with how many R&amp;D dollars you have... It's not about money. It's about the people you have, how you're led, and how much you get it. (Steve Job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mpany culture and leadership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wo prominent barriers to innovatio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your company's culture isn't set-up to accept new ideas and creative contributions from its staff then inventions will be unable to break through to the marketpla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organization may be structured so that the development of an innovation is more challenging than at another busines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7510680" cy="129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does not happen haphazardly or sporadically within organization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"Real" Innovation is accomplished consistently and systematically, given the true voice of the customer and a process for delivering solu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anies that innovate successfully do so using an efficient and repeatable methodology. Success is not dependent upon genius – it emerges from the disciplined application of a proven innovation methodolog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2:08:14Z</dcterms:created>
  <dc:creator>Paulina Gutierrez</dc:creator>
  <dc:description/>
  <dc:language>en-US</dc:language>
  <cp:lastModifiedBy>Paulina Gutierrez</cp:lastModifiedBy>
  <dcterms:modified xsi:type="dcterms:W3CDTF">2010-04-01T04:16:21Z</dcterms:modified>
  <cp:revision>27</cp:revision>
  <dc:subject/>
  <dc:title>innovation</dc:title>
</cp:coreProperties>
</file>