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345-9BB3-47E9-B7B6-3C8C3B62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29D-C8E2-4FC8-9B57-03043551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E7B-9CBD-4490-AAF6-DB222375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C55-8E2B-4657-BCFC-11216C28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BD05-562D-415C-9AAA-CF39F2C7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69A5-3566-4D8E-ACF1-5EDD4D91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3B42-15F5-4010-A75F-E922960E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66D4-9B46-4C1A-BF0C-4B170776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64C0-0773-41E1-BBFF-0EA826F8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BD24-0AC3-4CFE-B6B4-47547892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50DE-50B5-4E7B-904E-B6AE5D7C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32E-F3DF-47B7-884F-BEB0B1C0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CBBA-F2AB-4D84-BC8B-55D75E99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0DE4-F838-4C81-AF9E-AB4EEC64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D4AE-2064-4E9E-A1F0-35D00C53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7580-02E6-49B5-BA4D-ECB375B1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8DBC-8A19-420B-83E5-84156EDC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5755B-9E64-4CA2-9B80-22361F1A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EF89-4347-49FC-859D-A3F81D59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0DE9-9177-4532-97FA-895BAA20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F9DC-0D3E-4427-81F5-9B36A326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71475-D79F-42F8-959D-E7FAEA7A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843-E367-4F8B-8537-7D15E04B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182B4-8817-42CA-A0AD-6EE073E1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127B-C923-4114-A389-5DB18C09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1765-6878-40BD-AD2E-7DDD3DB7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F702-65B3-445A-A391-562854F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153D2-313B-45EC-A3DE-4D222045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3250-3B43-4030-9435-D2B25243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6A04-CC38-43F4-AD1D-FD9C5108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66B33-D2A2-43FF-B171-1A76C12D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1D63A-BB46-4F8A-A296-7857D331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1F4B-DDE9-4FA2-88DA-32EF3C65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55A-3F4D-4D62-A9AA-81955D96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2BA8B-8C12-4BAE-A508-50B70CC7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210E8-DEAD-430D-97CB-F1D6C79A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A0EF9-6BF6-4889-8540-4E6F37D7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9D01-DBA6-4B28-8D29-958A4BA3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16426-AB8B-42B3-89F3-10DDFCF9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9876-BB8A-48DA-9CC3-E853E555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45073-4F91-41A7-A95D-308A1E41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8EC96-39D1-47C2-B114-F68360F9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123C0-286A-45B5-897B-F7A88FA0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78189-8539-46C4-95CA-ABAD7AC0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B6D-F3B8-43B1-BE44-5C4C006E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25BA5-C28B-4B71-8900-D13A01F6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2467-DFEF-4D1B-946D-26858CE1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9008-342F-4037-82DC-F65A7AF3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5B232-D326-468B-83C2-8113F9DE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CC703-1B65-4742-9247-F5946023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1CB75-991B-409B-89D4-9B9B240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1123-1956-4824-BD3F-694BD059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5652D-6046-4E4D-AE73-AB2164F3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EAC76-152D-4B98-A26B-4694E3B4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D0A11-506B-423C-B8D8-17380C7E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1A9-CBB2-4061-9578-2D98DB3C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EB707-6A5C-432A-8718-469C516D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A8B-A47D-47EB-8AA0-B207EFC1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512-22F2-42F6-95BF-DCBA9B27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571-E0DA-4152-BF87-280FE3BB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49E0-72DD-4EFB-BDF0-B72E753C011F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41A7-DD70-4D51-8319-40934CEBB5B2}" type="slidenum">
              <a:rPr b="0" lang="es-C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7490-1A50-400C-810E-DC1C9898F11E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8D6E-2AB3-4F63-A26E-41DEEA5C9811}" type="slidenum">
              <a:rPr b="0" lang="es-C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A0CF-79DD-41E6-8E28-435F4612ABEC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cohesion.rice.edu/centersandinst/icon/emplibrary/twitter_logo.jpg&amp;imgrefurl=http://www.armscontrol.org/reports&amp;usg=__40h9AQSQwhc2ugC6qcIrVp8-h2E=&amp;h=295&amp;w=800&amp;sz=33&amp;hl=es&amp;start=1&amp;sig2=NQ4qg8aXPa1dGYNNvVPF0g&amp;um=1&amp;itbs=1&amp;tbnid=HlgeaHb1DzF49M:&amp;tbnh=53&amp;tbnw=143&amp;prev=/images%3Fq%3Dtwitter%26um%3D1%26hl%3Des%26lr%3D%26sa%3DN%26tbs%3Disch:1&amp;ei=ef6zS6WcPIT68AbKzMTrCg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images.google.com/imgres?imgurl=http://www.doughroller.net/wp-content/uploads/2009/10/redbox.jpg&amp;imgrefurl=http://www.doughroller.net/reviews/redbox-review/&amp;usg=__OUsXv6rCLt9dRb4_mGEhkWqAMCc=&amp;h=432&amp;w=368&amp;sz=178&amp;hl=es&amp;start=2&amp;sig2=2AY6dZthuvDkvdEbwaM4VQ&amp;um=1&amp;itbs=1&amp;tbnid=VjiAl6rpTcswjM:&amp;tbnh=126&amp;tbnw=107&amp;prev=/images%3Fq%3Dredbox%26um%3D1%26hl%3Des%26lr%3D%26tbs%3Disch:1&amp;ei=tP6zS6WnA4L88Aag_azKAQ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thekrazycouponlady.com/wp-content/uploads/RedboxLogo.jpg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images.google.com/imgres?imgurl=http://www.icefire.ca/Partners/microsoft-logo.jpg&amp;imgrefurl=http://www.icefire.ca/Web/partners.aspx&amp;usg=__KSzun7ksc_rPQCTqjsE10dumsLk=&amp;h=686&amp;w=2846&amp;sz=80&amp;hl=es&amp;start=2&amp;sig2=0aYdztzVQWTkZxbbU06M5w&amp;um=1&amp;itbs=1&amp;tbnid=qXPGv2e2QgNLeM:&amp;tbnh=36&amp;tbnw=150&amp;prev=/images%3Fq%3Dmicrosoft%2Blogo%26um%3D1%26hl%3Des%26lr%3D%26tbs%3Disch:1&amp;ei=Pv-zS4TyM4H88Ab5ms3QCg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images.google.com/imgres?imgurl=http://www.sph.umd.edu/KNES/faculty/jkshim/neuromechanics/News/UMD_logo.JPG&amp;imgrefurl=http://www.sph.umd.edu/KNES/faculty/jkshim/neuromechanics/News/news.htm&amp;usg=__HYMDtawpSrjFRN6rnlw9G8PLog8=&amp;h=444&amp;w=453&amp;sz=70&amp;hl=es&amp;start=1&amp;sig2=SqbGjgEc498OInBdSq48mw&amp;um=1&amp;itbs=1&amp;tbnid=4NPxKe8cmr1lWM:&amp;tbnh=124&amp;tbnw=127&amp;prev=/images%3Fq%3Dumd%2Blogo%2Bmaryland%26um%3D1%26hl%3Des%26lr%3D%26tbs%3Disch:1&amp;ei=Zv-zS5GfJIGB8ga-qJjtCg" TargetMode="External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700360" y="530280"/>
            <a:ext cx="6284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499920" y="4428720"/>
            <a:ext cx="5115240" cy="153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Argumentative Presentatio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Paulina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April , 2010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Listening and Speaking Clas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ENTREPRENEUR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Is the practice of embarking on a new business in order to exploit new found opportuniti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INTRAPRENEUR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Is the practice of entrepreneurship by employees within an organization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714240" y="4714920"/>
            <a:ext cx="692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Trebuchet MS"/>
              </a:rPr>
              <a:t>entrepreneur takes risk </a:t>
            </a: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in being the owner and operator of a business with expectations of financial profit. On the contrary, an </a:t>
            </a: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Trebuchet MS"/>
              </a:rPr>
              <a:t>intrapreneur is an individual employed by an organization for remuneration</a:t>
            </a: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. But both share the same conviction, zeal (enthusiasm) an insigh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rebuchet MS"/>
              </a:rPr>
              <a:t>Could you define the concept of innovation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Key words, Can you remember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Introduction on something new and some improvement in 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Produc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Service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Proces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rebuchet MS"/>
              </a:rPr>
              <a:t>What is the difference between invention and innovation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Key words, Can you remember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the invention improves some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product,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process or service for the public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then tha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inven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transforms into a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innov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7493040" cy="1159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71680" y="1356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Do you think that you have been an innovative person in your life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Yes or No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3" descr="DSCF1935.JPG"/>
          <p:cNvPicPr/>
          <p:nvPr/>
        </p:nvPicPr>
        <p:blipFill>
          <a:blip r:embed="rId2"/>
          <a:stretch/>
        </p:blipFill>
        <p:spPr>
          <a:xfrm>
            <a:off x="1714680" y="3000240"/>
            <a:ext cx="48574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Content Placeholder 4" descr="images.jpg"/>
          <p:cNvPicPr/>
          <p:nvPr/>
        </p:nvPicPr>
        <p:blipFill>
          <a:blip r:embed="rId2"/>
          <a:stretch/>
        </p:blipFill>
        <p:spPr>
          <a:xfrm>
            <a:off x="3581280" y="3443400"/>
            <a:ext cx="990720" cy="118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ttp://members.fundacionbankinter.org/images/placeholders/informacion_becas.png"/>
          <p:cNvPicPr/>
          <p:nvPr/>
        </p:nvPicPr>
        <p:blipFill>
          <a:blip r:embed="rId3"/>
          <a:stretch/>
        </p:blipFill>
        <p:spPr>
          <a:xfrm>
            <a:off x="74520" y="1785960"/>
            <a:ext cx="7926480" cy="4500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images.jpg"/>
          <p:cNvPicPr/>
          <p:nvPr/>
        </p:nvPicPr>
        <p:blipFill>
          <a:blip r:embed="rId4"/>
          <a:stretch/>
        </p:blipFill>
        <p:spPr>
          <a:xfrm>
            <a:off x="3500280" y="3714840"/>
            <a:ext cx="993960" cy="1084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blobservlet5bef.gif"/>
          <p:cNvPicPr/>
          <p:nvPr/>
        </p:nvPicPr>
        <p:blipFill>
          <a:blip r:embed="rId5"/>
          <a:stretch/>
        </p:blipFill>
        <p:spPr>
          <a:xfrm>
            <a:off x="2143080" y="4214880"/>
            <a:ext cx="1500120" cy="1000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logo.gif"/>
          <p:cNvPicPr/>
          <p:nvPr/>
        </p:nvPicPr>
        <p:blipFill>
          <a:blip r:embed="rId6"/>
          <a:stretch/>
        </p:blipFill>
        <p:spPr>
          <a:xfrm>
            <a:off x="4857840" y="1857240"/>
            <a:ext cx="3128760" cy="547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images.jpg"/>
          <p:cNvPicPr/>
          <p:nvPr/>
        </p:nvPicPr>
        <p:blipFill>
          <a:blip r:embed="rId7"/>
          <a:stretch/>
        </p:blipFill>
        <p:spPr>
          <a:xfrm>
            <a:off x="428760" y="2000160"/>
            <a:ext cx="2430360" cy="1000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t2.gstatic.com/images?q=tbn:HlgeaHb1DzF49M:http://cohesion.rice.edu/centersandinst/icon/emplibrary/twitter_logo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85920" y="3071880"/>
            <a:ext cx="2143080" cy="847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t0.gstatic.com/images?q=tbn:VjiAl6rpTcswjM:http://www.doughroller.net/wp-content/uploads/2009/10/redbox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286680" y="2500200"/>
            <a:ext cx="1638000" cy="2071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Ver imagen en tamaño completo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00840" y="5572080"/>
            <a:ext cx="1643040" cy="993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http://t2.gstatic.com/images?q=tbn:qXPGv2e2QgNLeM:http://www.icefire.ca/Partners/microsoft-logo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357280" y="5857920"/>
            <a:ext cx="1785960" cy="428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http://t1.gstatic.com/images?q=tbn:4NPxKe8cmr1lWM:http://www.sph.umd.edu/KNES/faculty/jkshim/neuromechanics/News/UMD_logo.JP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786200" y="5429160"/>
            <a:ext cx="1209960" cy="1181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http://t3.gstatic.com/images?q=tbn:Y79rGTuHhPq22M:http://www.antociano.net/blog/wp-content/uploads/2007/08/prochile.jpg"/>
          <p:cNvPicPr/>
          <p:nvPr/>
        </p:nvPicPr>
        <p:blipFill>
          <a:blip r:embed="rId18"/>
          <a:stretch/>
        </p:blipFill>
        <p:spPr>
          <a:xfrm>
            <a:off x="428760" y="407196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novation 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Main Entry: in•no•va•tio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Pronunciation: "i-n&amp;-'vA-sh&amp;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Function: nou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: the introduction of something new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: a new idea, method or de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vention is useful only to the inventor unless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 is offered to the publi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the invention improves som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duct,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cess or service for the public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then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ven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transforms into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innovation can be big or small. Exampl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and-new or just a bit different, it doesn't matter. Exampl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innovation can be clearly complex or seemingly simple. Exampl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novations are often thought of in terms of technical achievement, but can also be a design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The type, industry and style of innovation are irrelevant; an innovation's impact determines its qualifica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is important to be clear as to what innovation is not.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Innovation is NOT inven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even if invention is the mother of necessit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se two words are sometimes used interchangeably, but although connected they are not the sam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An innovation is the extension of an inventio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uture of many businesses depends upon their ability to innovat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should be a “innovative” pers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petition is fierce. Knowledge spreads quickly. The ability of a company to not only keep up with its current business practices, but to exceed its own – and its competition's – expectations are critical to survi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nnovation is the specific instrument of entrepreneurship... the act that endows resources with a new capacity to create wealth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Peter Drucker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novation has nothing to do with how many R&amp;D dollars you have... It's not about money. It's about the people you have, how you're led, and how much you get it. (Steve Job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company culture and leadership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e two prominent barriers to innovatio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your company's culture isn't set-up to accept new ideas and creative contributions from its staff then inventions will be unable to break through to the marketplac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r organization may be structured so that the development of an innovation is more challenging than at another busines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195120" y="176040"/>
            <a:ext cx="7510680" cy="1292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"Real" Innovation does not happen haphazardly or sporadically within organization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"Real" Innovation is accomplished consistently and systematically, given the true voice of the customer and a process for delivering solut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anies that innovate successfully do so using an efficient and repeatable methodology. Success is not dependent upon genius – it emerges from the disciplined application of a proven innovation methodology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2:08:14Z</dcterms:created>
  <dc:creator>Paulina Gutierrez</dc:creator>
  <dc:description/>
  <dc:language>en-US</dc:language>
  <cp:lastModifiedBy>Paulina Gutierrez</cp:lastModifiedBy>
  <dcterms:modified xsi:type="dcterms:W3CDTF">2010-04-01T04:16:21Z</dcterms:modified>
  <cp:revision>27</cp:revision>
  <dc:subject/>
  <dc:title>innovation</dc:title>
</cp:coreProperties>
</file>