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18A-DBA1-473E-AFD0-86A6AEF2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BA7-D0FC-4BE7-A2FD-2B090ABD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E7CD-734F-4D48-BCAE-0ABB40C2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C2F-741A-4CC0-9EFF-46F33A89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FD8F-EFE2-43D3-964D-0C285333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1BAF-F861-4C22-952C-33416A8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D9BA-5BC4-4206-A0E7-B547D406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766F-D1A7-44C5-B08D-E285D66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D2F7-AC96-4171-B4DD-B6675F93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6D6B-E3F2-40DE-95EC-92013AF0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80C7-25E8-4A83-8A31-301BA2B3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782-BB51-4BFF-AD0F-3DA1A890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11C7-1F99-43BE-887D-DE060D3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5A24-A17E-4F26-BE5B-CFDFE317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AA42-61AB-445C-AD4A-1716C2EA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02F6-55F6-45FA-885F-70DA351C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E63-E4D6-4FF9-9466-8BD5287D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8245-9F31-435E-946E-7096DC1D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9DEB-2AB8-40E8-9253-11AF5F63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95BFD-093E-4C28-B9CD-765D83B0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1926-3648-4814-9835-733746C6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AFB7-9EC1-46EA-802D-CF4B8594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729-437B-4613-9490-C2DEF25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FE55-8364-4BA8-B1F6-6675571F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EA9B-3DC0-4F49-80A2-1D65AA58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8F47-C8E1-4ED4-9F88-292889DA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6037-C25E-4133-BD53-2EA3A65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11CC-A3FE-4575-9A63-EE753011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CFB4-FED2-41F7-8945-17F23C6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840A-73AF-429E-8B8E-95C53306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043B-4AF5-4A63-B454-90E85362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3822-D79D-49B3-9F7F-79012ECB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2BC8-8AAF-42E2-B27C-0FDAE995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1A1-581E-4426-B7A2-479E2058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3925-2A2D-4F38-85AD-EE851734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98CCA-53F0-46E0-A8C7-31F36FAF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C61F3-7EAE-4D48-8A18-D7109F77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C66A-71B0-4893-B872-99C5B71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F067A-1E9C-4EB0-BE41-BC4603F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D034D-B701-4215-A26B-08B263C4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1FD8-A8B2-40BD-93E8-ED0713B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F04A-C920-4D7C-8CD3-7CB3A793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D15A-BF63-4A30-85A6-5FAC8F39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D7FFC-25EB-4F34-81F0-F82047C8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FD4-4C6E-4751-805A-1F14AA8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D3F7-C995-4A1F-84D2-6FB6D8D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1854-84DA-4EEC-AC35-2DE171A2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8D1A-C37C-4F5E-9900-5F04F394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B2DA0-D05F-41DF-82D7-293D9F4A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9B3E-C056-4A14-A800-F5678906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17B9-A382-4C1C-899E-CA2ED0F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A8596-41BB-424A-AAEF-8F2784C3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B643-0838-4F3E-B8C6-1D0C4437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B0D1-F9BC-4FCC-A745-1849AC22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C779-9C20-4487-90DC-E381C510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64B-8DD9-4780-865C-C7667696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82B7-6F0B-4F67-92FD-5A62515E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E7E-7B22-4A3C-A77E-9360EB5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242-7F0C-49EC-A52C-06F1D90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FB4-4DA7-4B22-B241-89944B8A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8DA-231B-4C60-8B31-4B02D9C755F4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49F-CF9C-4C74-A3C5-5E184C3BA0B0}" type="slidenum">
              <a:rPr b="0" lang="es-C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F134-3CE5-4CD8-9B2D-A17D0AD8EFB4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284-EDAC-4DD8-8D12-54D16F6B2669}" type="slidenum">
              <a:rPr b="0" lang="es-C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823D-4867-4DBE-B123-01E68F93C01F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cohesion.rice.edu/centersandinst/icon/emplibrary/twitter_logo.jpg&amp;imgrefurl=http://www.armscontrol.org/reports&amp;usg=__40h9AQSQwhc2ugC6qcIrVp8-h2E=&amp;h=295&amp;w=800&amp;sz=33&amp;hl=es&amp;start=1&amp;sig2=NQ4qg8aXPa1dGYNNvVPF0g&amp;um=1&amp;itbs=1&amp;tbnid=HlgeaHb1DzF49M:&amp;tbnh=53&amp;tbnw=143&amp;prev=/images%3Fq%3Dtwitter%26um%3D1%26hl%3Des%26lr%3D%26sa%3DN%26tbs%3Disch:1&amp;ei=ef6zS6WcPIT68AbKzMTrCg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images.google.com/imgres?imgurl=http://www.doughroller.net/wp-content/uploads/2009/10/redbox.jpg&amp;imgrefurl=http://www.doughroller.net/reviews/redbox-review/&amp;usg=__OUsXv6rCLt9dRb4_mGEhkWqAMCc=&amp;h=432&amp;w=368&amp;sz=178&amp;hl=es&amp;start=2&amp;sig2=2AY6dZthuvDkvdEbwaM4VQ&amp;um=1&amp;itbs=1&amp;tbnid=VjiAl6rpTcswjM:&amp;tbnh=126&amp;tbnw=107&amp;prev=/images%3Fq%3Dredbox%26um%3D1%26hl%3Des%26lr%3D%26tbs%3Disch:1&amp;ei=tP6zS6WnA4L88Aag_azKAQ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thekrazycouponlady.com/wp-content/uploads/RedboxLogo.jpg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m/imgres?imgurl=http://www.icefire.ca/Partners/microsoft-logo.jpg&amp;imgrefurl=http://www.icefire.ca/Web/partners.aspx&amp;usg=__KSzun7ksc_rPQCTqjsE10dumsLk=&amp;h=686&amp;w=2846&amp;sz=80&amp;hl=es&amp;start=2&amp;sig2=0aYdztzVQWTkZxbbU06M5w&amp;um=1&amp;itbs=1&amp;tbnid=qXPGv2e2QgNLeM:&amp;tbnh=36&amp;tbnw=150&amp;prev=/images%3Fq%3Dmicrosoft%2Blogo%26um%3D1%26hl%3Des%26lr%3D%26tbs%3Disch:1&amp;ei=Pv-zS4TyM4H88Ab5ms3QCg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images.google.com/imgres?imgurl=http://www.sph.umd.edu/KNES/faculty/jkshim/neuromechanics/News/UMD_logo.JPG&amp;imgrefurl=http://www.sph.umd.edu/KNES/faculty/jkshim/neuromechanics/News/news.htm&amp;usg=__HYMDtawpSrjFRN6rnlw9G8PLog8=&amp;h=444&amp;w=453&amp;sz=70&amp;hl=es&amp;start=1&amp;sig2=SqbGjgEc498OInBdSq48mw&amp;um=1&amp;itbs=1&amp;tbnid=4NPxKe8cmr1lWM:&amp;tbnh=124&amp;tbnw=127&amp;prev=/images%3Fq%3Dumd%2Blogo%2Bmaryland%26um%3D1%26hl%3Des%26lr%3D%26tbs%3Disch:1&amp;ei=Zv-zS5GfJIGB8ga-qJjtCg" TargetMode="External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700360" y="530280"/>
            <a:ext cx="6284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99920" y="4428720"/>
            <a:ext cx="5115240" cy="153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rgumentative Presentati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Paulina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pril , 2010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Listening and Speaking Clas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ENTRE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mbarking on a new business in order to exploit new found opportunit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A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ntrepreneurship by employees within an organization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14240" y="4714920"/>
            <a:ext cx="692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entrepreneur takes risk 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in being the owner and operator of a business with expectations of financial profit. On the contrary, 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intrapreneur is an individual employed by an organization for remuneration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. But both share the same conviction, zeal (enthusiasm) an insigh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Could you define the concept of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oduction on something new and some improvement in 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duc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Service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ces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What is the difference between invention and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7493040" cy="1159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7168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Do you think that you have been an innovative person in your life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Yes or No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3" descr="DSCF1935.JPG"/>
          <p:cNvPicPr/>
          <p:nvPr/>
        </p:nvPicPr>
        <p:blipFill>
          <a:blip r:embed="rId2"/>
          <a:stretch/>
        </p:blipFill>
        <p:spPr>
          <a:xfrm>
            <a:off x="1714680" y="3000240"/>
            <a:ext cx="48574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4" descr="images.jpg"/>
          <p:cNvPicPr/>
          <p:nvPr/>
        </p:nvPicPr>
        <p:blipFill>
          <a:blip r:embed="rId2"/>
          <a:stretch/>
        </p:blipFill>
        <p:spPr>
          <a:xfrm>
            <a:off x="3581280" y="3443400"/>
            <a:ext cx="99072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://members.fundacionbankinter.org/images/placeholders/informacion_becas.png"/>
          <p:cNvPicPr/>
          <p:nvPr/>
        </p:nvPicPr>
        <p:blipFill>
          <a:blip r:embed="rId3"/>
          <a:stretch/>
        </p:blipFill>
        <p:spPr>
          <a:xfrm>
            <a:off x="74520" y="1785960"/>
            <a:ext cx="7926480" cy="450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images.jpg"/>
          <p:cNvPicPr/>
          <p:nvPr/>
        </p:nvPicPr>
        <p:blipFill>
          <a:blip r:embed="rId4"/>
          <a:stretch/>
        </p:blipFill>
        <p:spPr>
          <a:xfrm>
            <a:off x="3500280" y="3714840"/>
            <a:ext cx="993960" cy="108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blobservlet5bef.gif"/>
          <p:cNvPicPr/>
          <p:nvPr/>
        </p:nvPicPr>
        <p:blipFill>
          <a:blip r:embed="rId5"/>
          <a:stretch/>
        </p:blipFill>
        <p:spPr>
          <a:xfrm>
            <a:off x="2143080" y="421488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logo.gif"/>
          <p:cNvPicPr/>
          <p:nvPr/>
        </p:nvPicPr>
        <p:blipFill>
          <a:blip r:embed="rId6"/>
          <a:stretch/>
        </p:blipFill>
        <p:spPr>
          <a:xfrm>
            <a:off x="4857840" y="1857240"/>
            <a:ext cx="3128760" cy="547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images.jpg"/>
          <p:cNvPicPr/>
          <p:nvPr/>
        </p:nvPicPr>
        <p:blipFill>
          <a:blip r:embed="rId7"/>
          <a:stretch/>
        </p:blipFill>
        <p:spPr>
          <a:xfrm>
            <a:off x="428760" y="2000160"/>
            <a:ext cx="2430360" cy="100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t2.gstatic.com/images?q=tbn:HlgeaHb1DzF49M:http://cohesion.rice.edu/centersandinst/icon/emplibrary/twitter_logo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85920" y="3071880"/>
            <a:ext cx="2143080" cy="847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t0.gstatic.com/images?q=tbn:VjiAl6rpTcswjM:http://www.doughroller.net/wp-content/uploads/2009/10/redbox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86680" y="2500200"/>
            <a:ext cx="1638000" cy="207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Ver imagen en tamaño completo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00840" y="5572080"/>
            <a:ext cx="1643040" cy="99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://t2.gstatic.com/images?q=tbn:qXPGv2e2QgNLeM:http://www.icefire.ca/Partners/microsoft-logo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357280" y="5857920"/>
            <a:ext cx="1785960" cy="428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http://t1.gstatic.com/images?q=tbn:4NPxKe8cmr1lWM:http://www.sph.umd.edu/KNES/faculty/jkshim/neuromechanics/News/UMD_logo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786200" y="5429160"/>
            <a:ext cx="120996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http://t3.gstatic.com/images?q=tbn:Y79rGTuHhPq22M:http://www.antociano.net/blog/wp-content/uploads/2007/08/prochile.jpg"/>
          <p:cNvPicPr/>
          <p:nvPr/>
        </p:nvPicPr>
        <p:blipFill>
          <a:blip r:embed="rId18"/>
          <a:stretch/>
        </p:blipFill>
        <p:spPr>
          <a:xfrm>
            <a:off x="428760" y="407196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 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Main Entry: in•no•va•tio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Pronunciation: "i-n&amp;-'vA-sh&amp;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Function: nou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: the introduction of something ne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: a new idea, method or de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 is useful only to the inventor unless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 is offered to the publi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big or small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and-new or just a bit different, it doesn't matter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clearly complex or seemingly simple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s are often thought of in terms of technical achievement, but can also be a desig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The type, industry and style of innovation are irrelevant; an innovation's impact determines its qualific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important to be clear as to what innovation is not.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 is NOT 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even if invention is the mother of necessi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se two words are sometimes used interchangeably, but although connected they are not the sam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n innovation is the extension of an inven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uture of many businesses depends upon their ability to innov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should be a “innovative” pers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etition is fierce. Knowledge spreads quickly. The ability of a company to not only keep up with its current business practices, but to exceed its own – and its competition's – expectations are critical to survi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novation is the specific instrument of entrepreneurship... the act that endows resources with a new capacity to create wealth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Peter Drucker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novation has nothing to do with how many R&amp;D dollars you have... It's not about money. It's about the people you have, how you're led, and how much you get it. (Steve Job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company culture and leadership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two prominent barriers to innova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your company's culture isn't set-up to accept new ideas and creative contributions from its staff then inventions will be unable to break through to the marketpla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organization may be structured so that the development of an innovation is more challenging than at another busines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7510680" cy="129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does not happen haphazardly or sporadically within organization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is accomplished consistently and systematically, given the true voice of the customer and a process for delivering solu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anies that innovate successfully do so using an efficient and repeatable methodology. Success is not dependent upon genius – it emerges from the disciplined application of a proven innovation methodolog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2:08:14Z</dcterms:created>
  <dc:creator>Paulina Gutierrez</dc:creator>
  <dc:description/>
  <dc:language>en-US</dc:language>
  <cp:lastModifiedBy>Paulina Gutierrez</cp:lastModifiedBy>
  <dcterms:modified xsi:type="dcterms:W3CDTF">2010-04-01T04:16:21Z</dcterms:modified>
  <cp:revision>27</cp:revision>
  <dc:subject/>
  <dc:title>innovation</dc:title>
</cp:coreProperties>
</file>