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ACD-0A1C-4B4E-BEB4-DBD2E1FB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DF7-819C-48D8-8B66-034EBA9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BAE-991A-4739-9709-3B6BCB94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335-EF9B-43C7-BF7A-86322220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76D4-4463-43B9-9278-6A8CB0B0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413D-C12D-4132-9A48-CF021214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87B3-CD82-4D02-BAD9-3CA4DE5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2361-EAD9-40B4-B77B-2C587106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1C41-6E57-4B64-B730-0C9EFC5A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A3E2-7BA9-491F-9D98-52528345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E804-FE96-484B-A8D8-B80C07D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066-E4AD-45EE-8805-42EC9EAE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8353-2B60-47D0-9BD8-3E6FAE7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E17F-FE33-4755-9443-03A89717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0FEE-0B2E-4EF3-BCCA-87060718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9F79-A4BF-443F-9E14-1A4F0463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7C5C-A846-419D-9586-082EBAEE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839B-732C-4150-8B2B-345CF412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A31D3-8D93-42A0-8E14-452ACB95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C776-7A7B-48EA-BD75-5CD71507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9F8F-AB52-4EFC-B15A-6E34817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02D6-A25F-4023-9A14-FDF4D72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DB4-4460-424A-A43D-774CD3C8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211B-11B5-41AB-B394-FB7516F3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5D96-2D91-4EAA-A73E-E766DE41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5F3F-4D16-454D-AF28-28C5FF92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FBE5-F516-4EF8-B62B-D2FF0E2C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8892-5444-455A-91CC-46548099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5C7FA-A45D-470A-A8B9-0C41A366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E06B-EAE5-419E-A9CF-1701B52B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83C1-D708-4417-878B-5651FF3B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8E5B-C402-4F02-AE80-4D5E54E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E8A6-FD24-492B-BB22-93A8B6D5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3F5-F4EF-4D49-89B2-6004D990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48A31-B546-4396-8663-1D49D053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DA798-5016-4FDF-B5CA-41FAAA82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0D0B8-EF05-4586-92B8-A7A06551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ADBE-C8C3-4CB4-ADA3-A4E9E0DC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DEE7-8BB2-4B4C-AA20-230AC3FF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75789-8952-437E-8620-1969916F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69D9A-6CEE-435E-BCA6-7C10526A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75EC-1315-419F-876B-A903EB05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ADF6-AF51-422F-95B2-02E10517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E620-B89E-428E-B527-21229EF9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5AF-B112-4E3B-BBEB-B036E1AA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347B-664F-4FA8-A1DD-9C3FFDB7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8997-C777-493F-9479-9D3FD88D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DDC7-BDFE-4510-A59A-860303D0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F7B2B-EBAD-475F-8A6A-C3B8F24B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D9AF6-78F2-4F9D-AFC8-67249CE5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4E1C-38ED-4769-A3CC-3042872D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C8A34-59E6-4EB1-B05D-597D41E2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50E8-8097-4A55-BB38-DA15C96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23B9E-7BC2-47E4-89F3-F34D12F0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5E311-BE5B-474F-9FE6-19E2A0AE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357-2F36-4174-B82B-5D09F998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85D73-958D-4B7C-B6F2-9D38A19F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F9D-FE29-4564-AF8B-19AF0461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FA6-D5C3-40AF-ACD2-59FA059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7C7-D1FF-4859-AD50-0BF10DC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1553-A561-4723-8FDE-60FFE62D10F5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3D33-2D01-42B7-B200-31E915CEA240}" type="slidenum">
              <a:rPr b="0" lang="es-C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0D3B-52D0-48E8-B9FA-22066D414E7E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AA0D-9515-47B7-ABB1-44793F93FC07}" type="slidenum">
              <a:rPr b="0" lang="es-C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276D-5F12-4104-8032-9FE7B7189A1A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cohesion.rice.edu/centersandinst/icon/emplibrary/twitter_logo.jpg&amp;imgrefurl=http://www.armscontrol.org/reports&amp;usg=__40h9AQSQwhc2ugC6qcIrVp8-h2E=&amp;h=295&amp;w=800&amp;sz=33&amp;hl=es&amp;start=1&amp;sig2=NQ4qg8aXPa1dGYNNvVPF0g&amp;um=1&amp;itbs=1&amp;tbnid=HlgeaHb1DzF49M:&amp;tbnh=53&amp;tbnw=143&amp;prev=/images%3Fq%3Dtwitter%26um%3D1%26hl%3Des%26lr%3D%26sa%3DN%26tbs%3Disch:1&amp;ei=ef6zS6WcPIT68AbKzMTrCg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images.google.com/imgres?imgurl=http://www.doughroller.net/wp-content/uploads/2009/10/redbox.jpg&amp;imgrefurl=http://www.doughroller.net/reviews/redbox-review/&amp;usg=__OUsXv6rCLt9dRb4_mGEhkWqAMCc=&amp;h=432&amp;w=368&amp;sz=178&amp;hl=es&amp;start=2&amp;sig2=2AY6dZthuvDkvdEbwaM4VQ&amp;um=1&amp;itbs=1&amp;tbnid=VjiAl6rpTcswjM:&amp;tbnh=126&amp;tbnw=107&amp;prev=/images%3Fq%3Dredbox%26um%3D1%26hl%3Des%26lr%3D%26tbs%3Disch:1&amp;ei=tP6zS6WnA4L88Aag_azKAQ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thekrazycouponlady.com/wp-content/uploads/RedboxLogo.jpg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images.google.com/imgres?imgurl=http://www.icefire.ca/Partners/microsoft-logo.jpg&amp;imgrefurl=http://www.icefire.ca/Web/partners.aspx&amp;usg=__KSzun7ksc_rPQCTqjsE10dumsLk=&amp;h=686&amp;w=2846&amp;sz=80&amp;hl=es&amp;start=2&amp;sig2=0aYdztzVQWTkZxbbU06M5w&amp;um=1&amp;itbs=1&amp;tbnid=qXPGv2e2QgNLeM:&amp;tbnh=36&amp;tbnw=150&amp;prev=/images%3Fq%3Dmicrosoft%2Blogo%26um%3D1%26hl%3Des%26lr%3D%26tbs%3Disch:1&amp;ei=Pv-zS4TyM4H88Ab5ms3QCg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images.google.com/imgres?imgurl=http://www.sph.umd.edu/KNES/faculty/jkshim/neuromechanics/News/UMD_logo.JPG&amp;imgrefurl=http://www.sph.umd.edu/KNES/faculty/jkshim/neuromechanics/News/news.htm&amp;usg=__HYMDtawpSrjFRN6rnlw9G8PLog8=&amp;h=444&amp;w=453&amp;sz=70&amp;hl=es&amp;start=1&amp;sig2=SqbGjgEc498OInBdSq48mw&amp;um=1&amp;itbs=1&amp;tbnid=4NPxKe8cmr1lWM:&amp;tbnh=124&amp;tbnw=127&amp;prev=/images%3Fq%3Dumd%2Blogo%2Bmaryland%26um%3D1%26hl%3Des%26lr%3D%26tbs%3Disch:1&amp;ei=Zv-zS5GfJIGB8ga-qJjtCg" TargetMode="External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700360" y="530280"/>
            <a:ext cx="6284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499920" y="4428720"/>
            <a:ext cx="5115240" cy="153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Argumentative Presentatio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Paulina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April , 2010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Listening and Speaking Clas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ENTREPRENEU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Is the practice of embarking on a new business in order to exploit new found opportunit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INTRAPRENEU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Is the practice of entrepreneurship by employees within an organization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14240" y="4714920"/>
            <a:ext cx="692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Trebuchet MS"/>
              </a:rPr>
              <a:t>entrepreneur takes risk </a:t>
            </a: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in being the owner and operator of a business with expectations of financial profit. On the contrary, an </a:t>
            </a: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Trebuchet MS"/>
              </a:rPr>
              <a:t>intrapreneur is an individual employed by an organization for remuneration</a:t>
            </a: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. But both share the same conviction, zeal (enthusiasm) an insigh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rebuchet MS"/>
              </a:rPr>
              <a:t>Could you define the concept of innov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Key words, Can you remember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Introduction on something new and some improvement in 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Produc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Service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Proces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rebuchet MS"/>
              </a:rPr>
              <a:t>What is the difference between invention and innov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Key words, Can you remember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the invention improves some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duct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cess or service for the public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then tha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ven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ransforms into a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nov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7493040" cy="1159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7168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Do you think that you have been an innovative person in your life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Yes or No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3" descr="DSCF1935.JPG"/>
          <p:cNvPicPr/>
          <p:nvPr/>
        </p:nvPicPr>
        <p:blipFill>
          <a:blip r:embed="rId2"/>
          <a:stretch/>
        </p:blipFill>
        <p:spPr>
          <a:xfrm>
            <a:off x="1714680" y="3000240"/>
            <a:ext cx="48574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4" descr="images.jpg"/>
          <p:cNvPicPr/>
          <p:nvPr/>
        </p:nvPicPr>
        <p:blipFill>
          <a:blip r:embed="rId2"/>
          <a:stretch/>
        </p:blipFill>
        <p:spPr>
          <a:xfrm>
            <a:off x="3581280" y="3443400"/>
            <a:ext cx="990720" cy="11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://members.fundacionbankinter.org/images/placeholders/informacion_becas.png"/>
          <p:cNvPicPr/>
          <p:nvPr/>
        </p:nvPicPr>
        <p:blipFill>
          <a:blip r:embed="rId3"/>
          <a:stretch/>
        </p:blipFill>
        <p:spPr>
          <a:xfrm>
            <a:off x="74520" y="1785960"/>
            <a:ext cx="7926480" cy="4500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images.jpg"/>
          <p:cNvPicPr/>
          <p:nvPr/>
        </p:nvPicPr>
        <p:blipFill>
          <a:blip r:embed="rId4"/>
          <a:stretch/>
        </p:blipFill>
        <p:spPr>
          <a:xfrm>
            <a:off x="3500280" y="3714840"/>
            <a:ext cx="993960" cy="108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blobservlet5bef.gif"/>
          <p:cNvPicPr/>
          <p:nvPr/>
        </p:nvPicPr>
        <p:blipFill>
          <a:blip r:embed="rId5"/>
          <a:stretch/>
        </p:blipFill>
        <p:spPr>
          <a:xfrm>
            <a:off x="2143080" y="421488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logo.gif"/>
          <p:cNvPicPr/>
          <p:nvPr/>
        </p:nvPicPr>
        <p:blipFill>
          <a:blip r:embed="rId6"/>
          <a:stretch/>
        </p:blipFill>
        <p:spPr>
          <a:xfrm>
            <a:off x="4857840" y="1857240"/>
            <a:ext cx="3128760" cy="547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images.jpg"/>
          <p:cNvPicPr/>
          <p:nvPr/>
        </p:nvPicPr>
        <p:blipFill>
          <a:blip r:embed="rId7"/>
          <a:stretch/>
        </p:blipFill>
        <p:spPr>
          <a:xfrm>
            <a:off x="428760" y="2000160"/>
            <a:ext cx="2430360" cy="100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t2.gstatic.com/images?q=tbn:HlgeaHb1DzF49M:http://cohesion.rice.edu/centersandinst/icon/emplibrary/twitter_logo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85920" y="3071880"/>
            <a:ext cx="2143080" cy="847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t0.gstatic.com/images?q=tbn:VjiAl6rpTcswjM:http://www.doughroller.net/wp-content/uploads/2009/10/redbox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286680" y="2500200"/>
            <a:ext cx="1638000" cy="2071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Ver imagen en tamaño completo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00840" y="5572080"/>
            <a:ext cx="1643040" cy="993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://t2.gstatic.com/images?q=tbn:qXPGv2e2QgNLeM:http://www.icefire.ca/Partners/microsoft-logo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357280" y="5857920"/>
            <a:ext cx="1785960" cy="428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http://t1.gstatic.com/images?q=tbn:4NPxKe8cmr1lWM:http://www.sph.umd.edu/KNES/faculty/jkshim/neuromechanics/News/UMD_logo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786200" y="5429160"/>
            <a:ext cx="120996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http://t3.gstatic.com/images?q=tbn:Y79rGTuHhPq22M:http://www.antociano.net/blog/wp-content/uploads/2007/08/prochile.jpg"/>
          <p:cNvPicPr/>
          <p:nvPr/>
        </p:nvPicPr>
        <p:blipFill>
          <a:blip r:embed="rId18"/>
          <a:stretch/>
        </p:blipFill>
        <p:spPr>
          <a:xfrm>
            <a:off x="428760" y="407196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novation 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Main Entry: in•no•va•tio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Pronunciation: "i-n&amp;-'vA-sh&amp;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Function: nou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: the introduction of something ne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: a new idea, method or de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vention is useful only to the inventor unless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 is offered to the publi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the invention improves som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duct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cess or service for the public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then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ven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ransforms in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innovation can be big or small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and-new or just a bit different, it doesn't matter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innovation can be clearly complex or seemingly simple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novations are often thought of in terms of technical achievement, but can also be a design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The type, industry and style of innovation are irrelevant; an innovation's impact determines its qualifica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s important to be clear as to what innovation is not.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novation is NOT inven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even if invention is the mother of necessit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se two words are sometimes used interchangeably, but although connected they are not the sam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n innovation is the extension of an inven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uture of many businesses depends upon their ability to innovat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should be a “innovative” pers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etition is fierce. Knowledge spreads quickly. The ability of a company to not only keep up with its current business practices, but to exceed its own – and its competition's – expectations are critical to survi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novation is the specific instrument of entrepreneurship... the act that endows resources with a new capacity to create wealth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Peter Drucker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novation has nothing to do with how many R&amp;D dollars you have... It's not about money. It's about the people you have, how you're led, and how much you get it. (Steve Job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company culture and leadership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two prominent barriers to innova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your company's culture isn't set-up to accept new ideas and creative contributions from its staff then inventions will be unable to break through to the marketplac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organization may be structured so that the development of an innovation is more challenging than at another busines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95120" y="176040"/>
            <a:ext cx="7510680" cy="1292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"Real" Innovation does not happen haphazardly or sporadically within organization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"Real" Innovation is accomplished consistently and systematically, given the true voice of the customer and a process for delivering solut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anies that innovate successfully do so using an efficient and repeatable methodology. Success is not dependent upon genius – it emerges from the disciplined application of a proven innovation methodology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2:08:14Z</dcterms:created>
  <dc:creator>Paulina Gutierrez</dc:creator>
  <dc:description/>
  <dc:language>en-US</dc:language>
  <cp:lastModifiedBy>Paulina Gutierrez</cp:lastModifiedBy>
  <dcterms:modified xsi:type="dcterms:W3CDTF">2010-04-01T04:16:21Z</dcterms:modified>
  <cp:revision>27</cp:revision>
  <dc:subject/>
  <dc:title>innovation</dc:title>
</cp:coreProperties>
</file>